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9EE5-D942-42D6-806B-8CF4B5248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FD38-670C-4835-800D-A123BC97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7BB5-418D-4758-A9B9-C31133257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5353-458D-4E81-A117-C2AE21811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E1E7-6BA1-4AE1-9172-4750EB11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A2E1-1051-4FA7-B1CB-5890A3AC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14FA-504E-4BD7-B120-35DC1731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2F5C-F512-400D-9932-C6A64DAB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258B-1F66-4F8C-855D-1663D4DA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76B7-9D09-4704-9CC3-D6C348E5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1846-0C0A-4BF2-A9D6-B029DDB1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CFC9-1D9D-42B4-B514-4A5B5CA9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5C65-E4D4-4EA3-B843-AC84ACBE6B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 Sym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ar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7467480" y="594360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5" h="21600">
                <a:moveTo>
                  <a:pt x="14586" y="3794"/>
                </a:moveTo>
                <a:lnTo>
                  <a:pt x="28599" y="10800"/>
                </a:lnTo>
                <a:lnTo>
                  <a:pt x="14586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how many lines of symmetry does this shape ha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4038480" y="2133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nextslide"/>
          </p:cNvPr>
          <p:cNvSpPr/>
          <p:nvPr/>
        </p:nvSpPr>
        <p:spPr>
          <a:xfrm>
            <a:off x="4038480" y="30988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nextslide"/>
          </p:cNvPr>
          <p:cNvSpPr/>
          <p:nvPr/>
        </p:nvSpPr>
        <p:spPr>
          <a:xfrm>
            <a:off x="4038480" y="5029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4038480" y="406404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4120" y="2209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4120" y="31496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4120" y="40892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than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34360" y="1569600"/>
            <a:ext cx="2610000" cy="3861360"/>
            <a:chOff x="234360" y="1569600"/>
            <a:chExt cx="2610000" cy="3861360"/>
          </a:xfrm>
        </p:grpSpPr>
        <p:sp>
          <p:nvSpPr>
            <p:cNvPr id="115" name=""/>
            <p:cNvSpPr/>
            <p:nvPr/>
          </p:nvSpPr>
          <p:spPr>
            <a:xfrm rot="20437200">
              <a:off x="785880" y="2787120"/>
              <a:ext cx="1523880" cy="14479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20437200">
              <a:off x="367920" y="1792080"/>
              <a:ext cx="1523880" cy="1066680"/>
            </a:xfrm>
            <a:prstGeom prst="triangle">
              <a:avLst>
                <a:gd name="adj" fmla="val 50000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 rot="20449800">
              <a:off x="1186920" y="4142880"/>
              <a:ext cx="1524240" cy="1067040"/>
            </a:xfrm>
            <a:prstGeom prst="triangle">
              <a:avLst>
                <a:gd name="adj" fmla="val 50000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ch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15200" y="55627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5" h="21600">
                <a:moveTo>
                  <a:pt x="11511" y="3794"/>
                </a:moveTo>
                <a:lnTo>
                  <a:pt x="25524" y="10800"/>
                </a:lnTo>
                <a:lnTo>
                  <a:pt x="11511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16765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shape has 2 lines of sym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46960" y="1605960"/>
            <a:ext cx="2610000" cy="3861360"/>
            <a:chOff x="246960" y="1605960"/>
            <a:chExt cx="2610000" cy="3861360"/>
          </a:xfrm>
        </p:grpSpPr>
        <p:sp>
          <p:nvSpPr>
            <p:cNvPr id="122" name=""/>
            <p:cNvSpPr/>
            <p:nvPr/>
          </p:nvSpPr>
          <p:spPr>
            <a:xfrm rot="20437200">
              <a:off x="798480" y="2823480"/>
              <a:ext cx="1523880" cy="14479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20437200">
              <a:off x="380520" y="1828440"/>
              <a:ext cx="1523880" cy="1066680"/>
            </a:xfrm>
            <a:prstGeom prst="triangle">
              <a:avLst>
                <a:gd name="adj" fmla="val 50000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20449800">
              <a:off x="1199520" y="4179240"/>
              <a:ext cx="1524240" cy="1067040"/>
            </a:xfrm>
            <a:prstGeom prst="triangle">
              <a:avLst>
                <a:gd name="adj" fmla="val 50000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 flipV="1">
            <a:off x="25200" y="2898720"/>
            <a:ext cx="3073680" cy="113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94880" y="1524600"/>
            <a:ext cx="1451880" cy="403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809880" y="533520"/>
            <a:ext cx="4496040" cy="22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ell done!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7315200" y="55627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5" h="21600">
                <a:moveTo>
                  <a:pt x="11511" y="3794"/>
                </a:moveTo>
                <a:lnTo>
                  <a:pt x="25524" y="10800"/>
                </a:lnTo>
                <a:lnTo>
                  <a:pt x="11511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46960" y="1605960"/>
            <a:ext cx="2610000" cy="3861360"/>
            <a:chOff x="246960" y="1605960"/>
            <a:chExt cx="2610000" cy="3861360"/>
          </a:xfrm>
        </p:grpSpPr>
        <p:sp>
          <p:nvSpPr>
            <p:cNvPr id="130" name=""/>
            <p:cNvSpPr/>
            <p:nvPr/>
          </p:nvSpPr>
          <p:spPr>
            <a:xfrm rot="20437200">
              <a:off x="798480" y="2823480"/>
              <a:ext cx="1523880" cy="14479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20437200">
              <a:off x="380520" y="1828440"/>
              <a:ext cx="1523880" cy="1066680"/>
            </a:xfrm>
            <a:prstGeom prst="triangle">
              <a:avLst>
                <a:gd name="adj" fmla="val 50000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 rot="20449800">
              <a:off x="1199520" y="4179240"/>
              <a:ext cx="1524240" cy="1067040"/>
            </a:xfrm>
            <a:prstGeom prst="triangle">
              <a:avLst>
                <a:gd name="adj" fmla="val 50000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 flipV="1">
            <a:off x="25200" y="2898720"/>
            <a:ext cx="3073680" cy="113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4880" y="1524600"/>
            <a:ext cx="1451880" cy="403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any lines of symmetry does this shape ha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4038480" y="2133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nextslide"/>
          </p:cNvPr>
          <p:cNvSpPr/>
          <p:nvPr/>
        </p:nvSpPr>
        <p:spPr>
          <a:xfrm>
            <a:off x="4038480" y="30988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5029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" action="ppaction://hlinkshowjump?jump=nextslide"/>
          </p:cNvPr>
          <p:cNvSpPr/>
          <p:nvPr/>
        </p:nvSpPr>
        <p:spPr>
          <a:xfrm>
            <a:off x="4038480" y="406404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2209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4120" y="31496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40892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than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2666880"/>
            <a:ext cx="2057400" cy="1716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ch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15200" y="55627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5" h="21600">
                <a:moveTo>
                  <a:pt x="11511" y="3794"/>
                </a:moveTo>
                <a:lnTo>
                  <a:pt x="25524" y="10800"/>
                </a:lnTo>
                <a:lnTo>
                  <a:pt x="11511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2666880"/>
            <a:ext cx="2057400" cy="1716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00360" y="1752480"/>
            <a:ext cx="0" cy="350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50840" y="2892600"/>
            <a:ext cx="3355920" cy="182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304920" y="2971800"/>
            <a:ext cx="3047760" cy="175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0" y="16765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shape has 3 lines of sym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5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7315200" y="55627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5" h="21600">
                <a:moveTo>
                  <a:pt x="11511" y="3794"/>
                </a:moveTo>
                <a:lnTo>
                  <a:pt x="25524" y="10800"/>
                </a:lnTo>
                <a:lnTo>
                  <a:pt x="11511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09880" y="533520"/>
            <a:ext cx="4496040" cy="22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ell done!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2666880"/>
            <a:ext cx="2057400" cy="1716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00360" y="1752480"/>
            <a:ext cx="0" cy="350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50840" y="2892600"/>
            <a:ext cx="3355920" cy="182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304560" y="2971440"/>
            <a:ext cx="2971800" cy="167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how many lines of symmetry does this shape ha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4038480" y="2133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nextslide"/>
          </p:cNvPr>
          <p:cNvSpPr/>
          <p:nvPr/>
        </p:nvSpPr>
        <p:spPr>
          <a:xfrm>
            <a:off x="4038480" y="30988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nextslide"/>
          </p:cNvPr>
          <p:cNvSpPr/>
          <p:nvPr/>
        </p:nvSpPr>
        <p:spPr>
          <a:xfrm>
            <a:off x="4038480" y="5029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38480" y="406404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2209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4120" y="31496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40892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412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than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2666880"/>
            <a:ext cx="2057400" cy="1716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762120" y="4386960"/>
            <a:ext cx="2057400" cy="1716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ch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7315200" y="55627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5" h="21600">
                <a:moveTo>
                  <a:pt x="11511" y="3794"/>
                </a:moveTo>
                <a:lnTo>
                  <a:pt x="25524" y="10800"/>
                </a:lnTo>
                <a:lnTo>
                  <a:pt x="11511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0" y="167652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s shape has only 2 lines of symmet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2666880"/>
            <a:ext cx="2057400" cy="1716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762120" y="4386960"/>
            <a:ext cx="2057400" cy="1716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12960" y="2209680"/>
            <a:ext cx="0" cy="441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4403880"/>
            <a:ext cx="3581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>
            <a:hlinkClick r:id="" action="ppaction://hlinkshowjump?jump=nextslide"/>
          </p:cNvPr>
          <p:cNvSpPr/>
          <p:nvPr/>
        </p:nvSpPr>
        <p:spPr>
          <a:xfrm>
            <a:off x="7315200" y="55627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5" h="21600">
                <a:moveTo>
                  <a:pt x="11511" y="3794"/>
                </a:moveTo>
                <a:lnTo>
                  <a:pt x="25524" y="10800"/>
                </a:lnTo>
                <a:lnTo>
                  <a:pt x="11511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09880" y="533520"/>
            <a:ext cx="4496040" cy="22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ell done!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762120" y="2666880"/>
            <a:ext cx="2057400" cy="1716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62120" y="4386960"/>
            <a:ext cx="2057400" cy="1716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812960" y="2209680"/>
            <a:ext cx="0" cy="441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4403880"/>
            <a:ext cx="3581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s when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19051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 join two shapes together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4114800"/>
            <a:ext cx="1143000" cy="1219320"/>
          </a:xfrm>
          <a:custGeom>
            <a:avLst/>
            <a:gdLst>
              <a:gd name="textAreaLeft" fmla="*/ 251280 w 1143000"/>
              <a:gd name="textAreaRight" fmla="*/ 891720 w 1143000"/>
              <a:gd name="textAreaTop" fmla="*/ 268200 h 1219320"/>
              <a:gd name="textAreaBottom" fmla="*/ 95112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2362320"/>
            <a:ext cx="1295280" cy="1143000"/>
          </a:xfrm>
          <a:prstGeom prst="pentag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4724280"/>
            <a:ext cx="2362320" cy="1295640"/>
          </a:xfrm>
          <a:prstGeom prst="parallelogram">
            <a:avLst>
              <a:gd name="adj" fmla="val 45582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990720" y="2894760"/>
            <a:ext cx="1143000" cy="1219320"/>
          </a:xfrm>
          <a:custGeom>
            <a:avLst/>
            <a:gdLst>
              <a:gd name="textAreaLeft" fmla="*/ 251280 w 1143000"/>
              <a:gd name="textAreaRight" fmla="*/ 891720 w 1143000"/>
              <a:gd name="textAreaTop" fmla="*/ 268200 h 1219320"/>
              <a:gd name="textAreaBottom" fmla="*/ 95112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934320" y="3504600"/>
            <a:ext cx="1295280" cy="1143000"/>
          </a:xfrm>
          <a:prstGeom prst="pentag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3139920" y="3429000"/>
            <a:ext cx="2362320" cy="1295280"/>
          </a:xfrm>
          <a:prstGeom prst="parallelogram">
            <a:avLst>
              <a:gd name="adj" fmla="val 4559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150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g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500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0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hape has line symmetry if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437920" y="1981080"/>
            <a:ext cx="3276720" cy="3276720"/>
            <a:chOff x="2437920" y="1981080"/>
            <a:chExt cx="3276720" cy="3276720"/>
          </a:xfrm>
        </p:grpSpPr>
        <p:sp>
          <p:nvSpPr>
            <p:cNvPr id="46" name=""/>
            <p:cNvSpPr/>
            <p:nvPr/>
          </p:nvSpPr>
          <p:spPr>
            <a:xfrm>
              <a:off x="3124080" y="1981080"/>
              <a:ext cx="2590560" cy="2590920"/>
            </a:xfrm>
            <a:prstGeom prst="rtTriangl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2437920" y="1981080"/>
              <a:ext cx="3276360" cy="327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1066680" y="54100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draw a line through it so that one part is exactly the same as the other par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7467480" y="594360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5" h="21600">
                <a:moveTo>
                  <a:pt x="14586" y="3794"/>
                </a:moveTo>
                <a:lnTo>
                  <a:pt x="28599" y="10800"/>
                </a:lnTo>
                <a:lnTo>
                  <a:pt x="14586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se shapes have one line of sym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629400" y="2155680"/>
            <a:ext cx="838080" cy="2438280"/>
            <a:chOff x="6629400" y="2155680"/>
            <a:chExt cx="838080" cy="2438280"/>
          </a:xfrm>
        </p:grpSpPr>
        <p:sp>
          <p:nvSpPr>
            <p:cNvPr id="52" name=""/>
            <p:cNvSpPr/>
            <p:nvPr/>
          </p:nvSpPr>
          <p:spPr>
            <a:xfrm>
              <a:off x="6629400" y="2155680"/>
              <a:ext cx="838080" cy="685800"/>
            </a:xfrm>
            <a:prstGeom prst="triangle">
              <a:avLst>
                <a:gd name="adj" fmla="val 50000"/>
              </a:avLst>
            </a:prstGeom>
            <a:solidFill>
              <a:srgbClr val="ff9966"/>
            </a:solidFill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6629400" y="2841480"/>
              <a:ext cx="838080" cy="1752480"/>
            </a:xfrm>
            <a:prstGeom prst="triangle">
              <a:avLst>
                <a:gd name="adj" fmla="val 50000"/>
              </a:avLst>
            </a:prstGeom>
            <a:solidFill>
              <a:srgbClr val="ff9966"/>
            </a:solidFill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7054920" y="1317600"/>
            <a:ext cx="0" cy="3657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3831600">
            <a:off x="3314520" y="3847680"/>
            <a:ext cx="1676160" cy="1905120"/>
          </a:xfrm>
          <a:custGeom>
            <a:avLst/>
            <a:gdLst>
              <a:gd name="textAreaLeft" fmla="*/ 368640 w 1676160"/>
              <a:gd name="textAreaRight" fmla="*/ 1307520 w 1676160"/>
              <a:gd name="textAreaTop" fmla="*/ 418680 h 1905120"/>
              <a:gd name="textAreaBottom" fmla="*/ 1486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442600" y="3934440"/>
            <a:ext cx="3414240" cy="1687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9311600">
            <a:off x="1523880" y="1549080"/>
            <a:ext cx="1371600" cy="2438280"/>
          </a:xfrm>
          <a:prstGeom prst="pentagon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166040" y="1454760"/>
            <a:ext cx="2087280" cy="262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7467480" y="594360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5" h="21600">
                <a:moveTo>
                  <a:pt x="14586" y="3794"/>
                </a:moveTo>
                <a:lnTo>
                  <a:pt x="28599" y="10800"/>
                </a:lnTo>
                <a:lnTo>
                  <a:pt x="14586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500"/>
                            </p:stCondLst>
                            <p:childTnLst>
                              <p:par>
                                <p:cTn id="16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75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se shapes have two lines of sym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2819520"/>
            <a:ext cx="914400" cy="243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19720" y="3124080"/>
            <a:ext cx="3047760" cy="9907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4600" y="2133720"/>
            <a:ext cx="0" cy="3962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4038480"/>
            <a:ext cx="2971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43600" y="2286000"/>
            <a:ext cx="0" cy="2819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3657600"/>
            <a:ext cx="4190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" action="ppaction://hlinkshowjump?jump=nextslide"/>
          </p:cNvPr>
          <p:cNvSpPr/>
          <p:nvPr/>
        </p:nvSpPr>
        <p:spPr>
          <a:xfrm>
            <a:off x="7467480" y="594360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5" h="21600">
                <a:moveTo>
                  <a:pt x="14586" y="3794"/>
                </a:moveTo>
                <a:lnTo>
                  <a:pt x="28599" y="10800"/>
                </a:lnTo>
                <a:lnTo>
                  <a:pt x="14586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500"/>
                            </p:stCondLst>
                            <p:childTnLst>
                              <p:par>
                                <p:cTn id="5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shapes have more than 2 lines of sym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33720" y="510552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lines of symmetry has a square go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43200" y="2743200"/>
            <a:ext cx="1523880" cy="14479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7315200" y="55627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5" h="21600">
                <a:moveTo>
                  <a:pt x="11511" y="3794"/>
                </a:moveTo>
                <a:lnTo>
                  <a:pt x="25524" y="10800"/>
                </a:lnTo>
                <a:lnTo>
                  <a:pt x="11511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ch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54864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quare has 4 lines of symmet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2743200"/>
            <a:ext cx="1523880" cy="14479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02080" y="1905120"/>
            <a:ext cx="0" cy="3047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01840" y="2346480"/>
            <a:ext cx="2438280" cy="228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133720" y="2438280"/>
            <a:ext cx="2438280" cy="228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" action="ppaction://hlinkshowjump?jump=nextslide"/>
          </p:cNvPr>
          <p:cNvSpPr/>
          <p:nvPr/>
        </p:nvSpPr>
        <p:spPr>
          <a:xfrm>
            <a:off x="7315200" y="55627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5" h="21600">
                <a:moveTo>
                  <a:pt x="11511" y="3794"/>
                </a:moveTo>
                <a:lnTo>
                  <a:pt x="25524" y="10800"/>
                </a:lnTo>
                <a:lnTo>
                  <a:pt x="11511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3476520"/>
            <a:ext cx="3505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500"/>
                            </p:stCondLst>
                            <p:childTnLst>
                              <p:par>
                                <p:cTn id="76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any lines of symmetry does this shape ha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4038480" y="2133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4038480" y="30988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38480" y="5029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38480" y="406404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4120" y="2209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4120" y="31496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4120" y="40892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412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than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692640" y="2409120"/>
            <a:ext cx="2272320" cy="2877840"/>
            <a:chOff x="692640" y="2409120"/>
            <a:chExt cx="2272320" cy="2877840"/>
          </a:xfrm>
        </p:grpSpPr>
        <p:sp>
          <p:nvSpPr>
            <p:cNvPr id="90" name=""/>
            <p:cNvSpPr/>
            <p:nvPr/>
          </p:nvSpPr>
          <p:spPr>
            <a:xfrm rot="20437200">
              <a:off x="1243440" y="3627000"/>
              <a:ext cx="1524240" cy="14479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20437200">
              <a:off x="826200" y="2631600"/>
              <a:ext cx="1524240" cy="1066680"/>
            </a:xfrm>
            <a:prstGeom prst="triangle">
              <a:avLst>
                <a:gd name="adj" fmla="val 50000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ch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692640" y="2409120"/>
            <a:ext cx="2272320" cy="2877840"/>
            <a:chOff x="692640" y="2409120"/>
            <a:chExt cx="2272320" cy="2877840"/>
          </a:xfrm>
        </p:grpSpPr>
        <p:sp>
          <p:nvSpPr>
            <p:cNvPr id="94" name=""/>
            <p:cNvSpPr/>
            <p:nvPr/>
          </p:nvSpPr>
          <p:spPr>
            <a:xfrm rot="20437200">
              <a:off x="1243440" y="3627000"/>
              <a:ext cx="1524240" cy="14479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20437200">
              <a:off x="826200" y="2631600"/>
              <a:ext cx="1524240" cy="1066680"/>
            </a:xfrm>
            <a:prstGeom prst="triangle">
              <a:avLst>
                <a:gd name="adj" fmla="val 50000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1162080" y="1981080"/>
            <a:ext cx="1447920" cy="4038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0" y="167652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shape has 1 line of sym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7315200" y="55627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5" h="21600">
                <a:moveTo>
                  <a:pt x="11511" y="3794"/>
                </a:moveTo>
                <a:lnTo>
                  <a:pt x="25524" y="10800"/>
                </a:lnTo>
                <a:lnTo>
                  <a:pt x="11511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>
            <a:hlinkClick r:id="" action="ppaction://hlinkshowjump?jump=nextslide"/>
          </p:cNvPr>
          <p:cNvSpPr/>
          <p:nvPr/>
        </p:nvSpPr>
        <p:spPr>
          <a:xfrm>
            <a:off x="7315200" y="55627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5" h="21600">
                <a:moveTo>
                  <a:pt x="11511" y="3794"/>
                </a:moveTo>
                <a:lnTo>
                  <a:pt x="25524" y="10800"/>
                </a:lnTo>
                <a:lnTo>
                  <a:pt x="11511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09880" y="533520"/>
            <a:ext cx="4496040" cy="22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ell done!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92640" y="2409120"/>
            <a:ext cx="2272320" cy="2877840"/>
            <a:chOff x="692640" y="2409120"/>
            <a:chExt cx="2272320" cy="2877840"/>
          </a:xfrm>
        </p:grpSpPr>
        <p:sp>
          <p:nvSpPr>
            <p:cNvPr id="102" name=""/>
            <p:cNvSpPr/>
            <p:nvPr/>
          </p:nvSpPr>
          <p:spPr>
            <a:xfrm rot="20437200">
              <a:off x="1243440" y="3627000"/>
              <a:ext cx="1524240" cy="14479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20437200">
              <a:off x="826200" y="2631600"/>
              <a:ext cx="1524240" cy="1066680"/>
            </a:xfrm>
            <a:prstGeom prst="triangle">
              <a:avLst>
                <a:gd name="adj" fmla="val 50000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1162080" y="1981080"/>
            <a:ext cx="1447920" cy="4038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7T11:30:05Z</dcterms:created>
  <dc:creator>Rhona Dick</dc:creator>
  <dc:description/>
  <dc:language>en-US</dc:language>
  <cp:lastModifiedBy>Property of</cp:lastModifiedBy>
  <dcterms:modified xsi:type="dcterms:W3CDTF">2011-01-11T12:11:19Z</dcterms:modified>
  <cp:revision>22</cp:revision>
  <dc:subject/>
  <dc:title>Line Symmetry</dc:title>
</cp:coreProperties>
</file>